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B499-4E4A-43EF-9CEA-1B3297C80F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A6D2-F034-4D3A-A0B3-FCFD1B64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AC914-8CA1-4FE5-BBA5-92303AE6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8CF50-53F1-4305-9270-BCFEB8E998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766E-FFEA-4E7E-96B3-9A0DFC28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A5F12-4159-4776-9878-1270EE5A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E491-9D15-4939-9B83-D2CF78B2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56183-2D22-43D4-9854-19D15FBA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90B4-C96B-4B8F-AD4B-6812806D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2989-E847-469B-BF8C-29635CF9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2F85-7A3E-43B4-A778-A7461DFC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7551E-6EC6-4637-8FCE-12570E19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5A09-7EEA-4E58-8779-88B506500B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565000"/>
            <a:ext cx="5040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言语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失语症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完全性失语： ① 是与否的反应建立；②手势反应建立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流畅性失语：①教会言语表达技能；②自动性言语；③看图说话；④描述训练。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失用：先学会词中的每个音、音节，最后是词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语言发育迟缓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每个儿童语言发育迟缓检查、评价结果、语言特征来制订训练目标及方法。 ①匹配训练； ②手势符号训练 ；③扩大词汇量训练：词句训练、表达训练、文字训练、交流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口吃：  ①儿童：进行呼吸和呼吸气流的控制，每次呼气发一个单词，再后每次呼气发短语和短句，保持气流和发音的连续性，也可用一些词或音节唱歌进行节律训练； ②成人：控制言语节律与速度，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拍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开始训练，逐渐提高速度，还有韵律训练、齐读训练、听觉反馈仪器训练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言语治疗注意事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反馈的重要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心患者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保交流手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重视患者本人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观察患者的异常反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15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个体根据所掌握的语文知识表达思想、进行交流的过程，实际上就是语言的传递过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治疗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 therapy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T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言语行为的听、说、读、写四个方面的功能障碍，采取相应的训练方法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主要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提高患者应用语言进行交流的能力，其中以提高口语交流能力为主。语言治疗的主要手段是言语训练，或借助交流替代设备，如交流板、交流手册、手势语等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增强患者的理解、表达及社交能力及技巧，从而提高日常与人沟通的能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言语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定训练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采用多种治疗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调正确发音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言语治疗必须结合实际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循序渐进，及时反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动参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言语康复的影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训练场所的选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宽敞，最好在有隔音设施，室内要简洁、安静、光线充足、井然有序，一般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</a:t>
            </a:r>
            <a:r>
              <a:rPr b="1" lang="en-US" sz="20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形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原则上以“一对一”训练为主，有时要进行集体训练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治疗次数和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一般为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人，每日一次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卫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预防各类传染病，训练物品要定期消毒，尽量用一次性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610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日常生活交流能力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参与家庭和社会活动，对于儿童要鼓励和其他小朋友一起玩耍 ，充分利用手势语、表情等可能利用的随意运动，将其作为日常生活交流的手段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吞咽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口腔周围肌肉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寒冷刺激法：用冰过的棉棒接触前腭弓并慢慢移动棉棒前端，进食前以冷却刺激进行口腔清洁，可提高食块知觉的敏感度和吞咽的注意力，从而减少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也可进行呼吸训练、咳嗽训练，练习吹气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抑制异常反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的身体姿势、肌张力、肌力和运动协调的异常都直接影响其言语的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构音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改善训练：①舌唇的运动训练； ②发音训练； ③减慢言语速度； ④辨音训练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克服鼻音化的训练： ①“推撑”疗法； ②引导气流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52:14Z</dcterms:modified>
  <cp:revision>2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